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8A16-2589-494C-AEB3-FAB5DA2D3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8464-CB66-4713-8325-90FCA00D2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092-7383-40A6-BFD4-DB956805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493-D45D-454B-9983-66E53F9F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849F8-CE94-45B0-9497-F543E8FE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046BF-83CE-4C58-A251-DDD55799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DEABD-BA5C-412B-B208-E7CAFF79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3ECC0-4DBC-4071-BD7B-480E3A12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17AD3-6F45-42D2-9FC0-92A6621E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EDDD4-816F-424C-9B46-7F373FB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3739A-C398-4A5A-B7DA-3A05FEDB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779F-DFFB-41E5-946D-B976A22C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8A2FC-678A-4ED7-9D26-570D9055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EAEC3-87FE-488A-8AB2-7A772EBF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B57-ADA5-44C1-B4A6-F0D5AFE5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B2786-FE4D-4BB7-AA7C-AF9C436E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40CAB-C1D7-4DF5-BC3C-748FE163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5EF0C-3F5E-43A7-9E37-65FA8AE4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3BF87-2E0C-46FB-9CC9-2B775A32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8C850-55FC-4D33-B95F-0810CC02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70ADC-8531-4D18-9C1A-90E0121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D6FDD-62C5-44BE-8378-0B242F04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A185F-33E8-4E24-8B50-400A8626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DED98-5DC7-4B39-AF6D-37D5854E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02767-087D-48A4-9E82-C3A5EA242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4CA-5746-4A3F-AF02-25F82E7E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C0CCF-76A8-41FB-A63E-5DF36095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73FD9-189F-4E62-9514-5C776C20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DC5C2-597F-49C6-914D-50EFE8BA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73C4A-092C-4C4F-AF05-310F5EEC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E20F1-7C89-4A7D-93C5-C79D98F6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4F2F4-23CF-4BF8-BF79-AC24D3E0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DDA73-E270-4B0E-9BBA-50513A08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4C395-46DD-4E7E-BD4E-1D9D8BD9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F5193-9319-4F24-BCBA-D3E772C7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44B9D-026D-4E8F-A1C0-C7D9943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A2F9-F836-48FC-8816-56E42118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5AE5D-79FC-4A78-8417-C26D25E0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AA5B1-D5C8-4421-843D-5CB12954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5034F-5482-4817-9B5F-F8A3D0DD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E7FA6-C571-490C-AFEB-BF0921A9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F3F8D-7461-45FD-888E-B2F73F71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176EC-8C2B-4854-B5B7-15DB48B5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35399-417F-4BC5-8288-5E93D987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AFDD78-0221-4605-866C-B075AB29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8B0AC-D444-460C-A707-CD7DF8D7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4A21A-C689-4C6A-8019-F21109A2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86EB-EBA9-4BA7-A871-8DEC4871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AA442-4FCD-4666-9791-FB0BB3FB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0FA51-7C26-4F4D-9CC9-EE45997F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DA999-75E6-432C-A433-BA11D063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B6857-1B25-47EC-B73C-24E464B4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44023-7990-4254-973E-4AB243D3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FCD2-45DA-4B9D-ABA0-FE1C7976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F205-97D5-4897-A00D-1D97FA1F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EEA9-10A4-491E-A47E-34CB70E0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05CAE-0AE9-4CAC-A047-326244F5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56A4-3DCB-446B-B6BD-32AF0BF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091-3199-4A22-9793-003F2598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F928-E84B-444E-BFC9-467E3E06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70E8-CD32-4234-9BC3-BE2DF477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FBB3-128B-4C5C-8B02-255068D2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B670-6CB4-4104-A86D-6418A40F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1E98-11C4-45F7-9500-D01E3654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F6789-ADF3-4625-976B-B5C3CFC4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8CC1-1068-47BC-8EA0-DA263065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327E-70A5-4B1B-98A8-1950B73F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138B-3FE2-40A8-B079-AA58E3F9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B38C-A38C-40D7-8397-9E985AE3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50A-1F50-411D-BD77-49AC8108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6065B-46C0-4EEC-9EB6-F54C56CB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B6FB-9954-43E5-A886-E8B921D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1467-5A70-4BA6-9270-8FE0816E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8AE0-77C1-45D7-9EDA-C14537B4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73C0-D71B-4959-BE23-4D6811A4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CAA1-5741-465E-9B3A-745648FE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B8C12-48D6-45FE-9169-BC17613B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6B396-B8B7-432E-9FE2-6AE9A800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61D0-FD4E-48DF-82C3-77EFD277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78336-BC1A-4AFA-B8FE-6F92BD3D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1A4-6EE5-46EC-9167-70D80B8C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87D6-D1BF-4678-A926-D44E7311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A7EF3-3365-4B6F-AAF7-437E621A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6D9C-B13B-4F97-A1C8-D56ADB31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7CE29-DE67-46D0-84CA-AB341075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C8016-D91C-42EF-9E62-2EFA8BA8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24BD-7D36-4E74-B49E-FB6CD44E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6ACD-D6FA-47F6-A52E-0316C877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C3E7-0421-4AC3-9E73-C1BEA84A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B00C-48B8-479E-8EFA-4DDA2B89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5F37D-3E1D-499D-A3F3-0076890A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A6A-CE97-42A8-9D6E-D0188E1A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6EE7C-A6D5-46E1-A608-23791F55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EBCF0-AFE5-46C0-8F1D-151ACC43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8D091-5992-419B-932D-6BF18110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0835B-2886-42C5-96F7-94F82FFF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AC5AF-E72C-42CA-83B2-FDF9CE3F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8FFA9-1622-4B90-976F-1F91A610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82FB3-0704-4B04-828C-91509CA7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C381-71A5-404D-A06B-FF7EDD9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3926-DD4F-448F-959D-0ADE8EA0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D10F-BFAC-4E96-AEEA-DB583F6B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3C9-BC69-4A64-894F-36844D21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75DA6-9D35-4298-961D-B7E95450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D5689-96AF-428C-A70B-74350129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E741D-4408-4A2A-AF1B-9C230154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BB28-DD1D-4CA1-AF94-63A60D05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B8643-12C5-4106-BCDF-57E57634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0BA4A-859F-410F-870C-3B849246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5FFEF-0C43-4FAA-B672-51D1238A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8505E-2E89-4148-9E86-2726392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A65C2-A228-4EBD-BA73-601B71C3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43F34-1CBE-4A54-A7A9-22A663A3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C88-C77B-4BFC-9382-4911A00B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4F9B6-05BD-4BA2-B132-D21B7FDD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B5C64-BAC4-42B9-9E99-A042A028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E6D8E-5F21-40F8-9FD5-3F9510433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00B5D-C90E-4E9F-A0E0-1DB81AF0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4510C-0E45-4908-8688-D42DDEA6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79ADB-71E8-4B3C-93B5-F1E4675A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AC010-B5B3-4F63-BCB5-34F67F86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D9644-DA86-44C5-8142-A55CFA20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4C8C8-95F7-4D1B-8FE6-883DDA71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CBFC5-DC22-4BC4-BF04-F9EA5D1A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F37-1D1B-4426-96B5-484AC1EA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0B376-E752-4C1C-8475-96865F17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B8EE1-F968-4A56-94BA-AE0B4902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27B4E-09BC-4C75-8737-7D27F6D5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C4672-94CC-4014-97B4-6E7D97D6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BD1CD-4049-4EA1-A6CD-B06DD4FE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2F954-A229-4072-BDF1-E6C0EB68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68F6C-2E12-41A8-9AA7-9EC4AA3C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D6FFB-EA2D-4B42-8D5D-55EFA6EB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61D83-DCCE-45B0-8607-40C44A6F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3E276-C9CD-4D88-8876-F9B59678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E7D9-0360-4BEB-80AE-B81480A3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33E4-0FE3-4564-8D97-155E2E95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15077-D2F4-426F-A2B5-EF8A9CC2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BC4D0-F8AC-4024-B197-F70ECBD9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C1B26-A75A-430A-81E9-8890A2BE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F005-1B10-44D6-A3CB-5DFA27A7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C13E1-4661-42BA-99E1-CA940696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893FB-06A1-44C2-A31B-419592755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D4001-9741-4392-8E28-F2DF2BE7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BFB12-CF00-484E-B1DD-69921785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9372E-0C68-4CAA-BB30-B6AD9E0C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B639-486E-44D1-AD29-0DBED92A5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2852-DF22-432D-BF56-D46DA7A29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B138-F588-4E06-86E7-F97334AD6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C30A-96FF-4B42-BF3E-1123A1A23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734-BFB0-42BB-AA12-4AA47E41C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9036-DF85-4F4B-A1A3-6110E9D4D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AECA-5AB2-4EBF-9C60-5DA9A0912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8AC6-0E76-46F8-9F6D-AB188E253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8258-D12B-4362-9EBF-C1FB128A1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DAD5-BE34-43AC-9D84-D665A5BB4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30FF-EB6E-45E4-8937-CC78214A5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82f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5405-04DF-4904-BD3C-FD5F389B1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"/><Relationship Id="rId6" Type="http://schemas.openxmlformats.org/officeDocument/2006/relationships/image" Target="../media/image1.png"/><Relationship Id="rId7" Type="http://schemas.openxmlformats.org/officeDocument/2006/relationships/slide" Target="slide8.xml"/><Relationship Id="rId8" Type="http://schemas.openxmlformats.org/officeDocument/2006/relationships/slide" Target=""/><Relationship Id="rId9" Type="http://schemas.openxmlformats.org/officeDocument/2006/relationships/image" Target="../media/image1.png"/><Relationship Id="rId10" Type="http://schemas.openxmlformats.org/officeDocument/2006/relationships/slide" Target="slide6.xml"/><Relationship Id="rId11" Type="http://schemas.openxmlformats.org/officeDocument/2006/relationships/slide" Target=""/><Relationship Id="rId12" Type="http://schemas.openxmlformats.org/officeDocument/2006/relationships/image" Target="../media/image1.png"/><Relationship Id="rId13" Type="http://schemas.openxmlformats.org/officeDocument/2006/relationships/slide" Target="slide10.xml"/><Relationship Id="rId14" Type="http://schemas.openxmlformats.org/officeDocument/2006/relationships/slide" Target=""/><Relationship Id="rId15" Type="http://schemas.openxmlformats.org/officeDocument/2006/relationships/image" Target="../media/image1.png"/><Relationship Id="rId16" Type="http://schemas.openxmlformats.org/officeDocument/2006/relationships/slide" Target="slide12.xml"/><Relationship Id="rId17" Type="http://schemas.openxmlformats.org/officeDocument/2006/relationships/slide" Target=""/><Relationship Id="rId18" Type="http://schemas.openxmlformats.org/officeDocument/2006/relationships/image" Target="../media/image1.png"/><Relationship Id="rId19" Type="http://schemas.openxmlformats.org/officeDocument/2006/relationships/slide" Target="slide14.xml"/><Relationship Id="rId20" Type="http://schemas.openxmlformats.org/officeDocument/2006/relationships/slide" Target=""/><Relationship Id="rId21" Type="http://schemas.openxmlformats.org/officeDocument/2006/relationships/image" Target="../media/image1.png"/><Relationship Id="rId22" Type="http://schemas.openxmlformats.org/officeDocument/2006/relationships/slide" Target="slide16.xml"/><Relationship Id="rId23" Type="http://schemas.openxmlformats.org/officeDocument/2006/relationships/slide" Target=""/><Relationship Id="rId24" Type="http://schemas.openxmlformats.org/officeDocument/2006/relationships/image" Target="../media/image1.png"/><Relationship Id="rId25" Type="http://schemas.openxmlformats.org/officeDocument/2006/relationships/slide" Target="slide18.xml"/><Relationship Id="rId26" Type="http://schemas.openxmlformats.org/officeDocument/2006/relationships/slide" Target=""/><Relationship Id="rId27" Type="http://schemas.openxmlformats.org/officeDocument/2006/relationships/image" Target="../media/image1.png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image" Target="../media/image1.png"/><Relationship Id="rId31" Type="http://schemas.openxmlformats.org/officeDocument/2006/relationships/slide" Target="slide22.xml"/><Relationship Id="rId32" Type="http://schemas.openxmlformats.org/officeDocument/2006/relationships/slide" Target=""/><Relationship Id="rId33" Type="http://schemas.openxmlformats.org/officeDocument/2006/relationships/image" Target="../media/image1.png"/><Relationship Id="rId34" Type="http://schemas.openxmlformats.org/officeDocument/2006/relationships/slide" Target="slide24.xml"/><Relationship Id="rId35" Type="http://schemas.openxmlformats.org/officeDocument/2006/relationships/slide" Target=""/><Relationship Id="rId36" Type="http://schemas.openxmlformats.org/officeDocument/2006/relationships/image" Target="../media/image1.png"/><Relationship Id="rId37" Type="http://schemas.openxmlformats.org/officeDocument/2006/relationships/slide" Target="slide26.xml"/><Relationship Id="rId38" Type="http://schemas.openxmlformats.org/officeDocument/2006/relationships/slide" Target=""/><Relationship Id="rId39" Type="http://schemas.openxmlformats.org/officeDocument/2006/relationships/image" Target="../media/image1.png"/><Relationship Id="rId40" Type="http://schemas.openxmlformats.org/officeDocument/2006/relationships/slide" Target="slide28.xml"/><Relationship Id="rId41" Type="http://schemas.openxmlformats.org/officeDocument/2006/relationships/slide" Target=""/><Relationship Id="rId42" Type="http://schemas.openxmlformats.org/officeDocument/2006/relationships/image" Target="../media/image1.png"/><Relationship Id="rId43" Type="http://schemas.openxmlformats.org/officeDocument/2006/relationships/slide" Target="slide30.xml"/><Relationship Id="rId44" Type="http://schemas.openxmlformats.org/officeDocument/2006/relationships/slide" Target=""/><Relationship Id="rId45" Type="http://schemas.openxmlformats.org/officeDocument/2006/relationships/image" Target="../media/image1.png"/><Relationship Id="rId46" Type="http://schemas.openxmlformats.org/officeDocument/2006/relationships/slide" Target="slide32.xml"/><Relationship Id="rId47" Type="http://schemas.openxmlformats.org/officeDocument/2006/relationships/slide" Target=""/><Relationship Id="rId48" Type="http://schemas.openxmlformats.org/officeDocument/2006/relationships/image" Target="../media/image1.png"/><Relationship Id="rId49" Type="http://schemas.openxmlformats.org/officeDocument/2006/relationships/slide" Target="slide34.xml"/><Relationship Id="rId50" Type="http://schemas.openxmlformats.org/officeDocument/2006/relationships/image" Target="../media/image1.png"/><Relationship Id="rId51" Type="http://schemas.openxmlformats.org/officeDocument/2006/relationships/slide" Target="slide36.xml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uzzthru.wav" TargetMode="External"/><Relationship Id="rId5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buzzthru.wav" TargetMode="External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3" action="ppaction://hlinksldjump"/>
              </a:rPr>
              <a:t>$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5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7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8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10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11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1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14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16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19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2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22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23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25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2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28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2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31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3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3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3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37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38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0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4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3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>
            <a:hlinkClick r:id="rId44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6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>
            <a:hlinkClick r:id="rId4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49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Impact"/>
                <a:hlinkClick r:id="rId51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Impact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act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Impact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Impact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58128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quation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685800" y="29008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(-12)(6) + 1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1447920" y="210348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-71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7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1447920" y="22546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he solution to 7 = n - 1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1447920" y="251424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22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4556160" y="2959560"/>
            <a:ext cx="18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838080" y="615960"/>
            <a:ext cx="7239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he symbol that makes an equation different from an expression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990720" y="1814400"/>
            <a:ext cx="7162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an equals sig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5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6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1447920" y="225648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The solution to = 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2666880" y="304812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3"/>
          <p:cNvSpPr/>
          <p:nvPr/>
        </p:nvSpPr>
        <p:spPr>
          <a:xfrm>
            <a:off x="2666880" y="3900600"/>
            <a:ext cx="83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1462320" y="2971440"/>
            <a:ext cx="583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72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2209680" y="1675080"/>
            <a:ext cx="495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he solution to k  -  7 = 3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447920" y="274284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40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2818800"/>
            <a:ext cx="624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(10) (-2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7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600200" y="1447920"/>
            <a:ext cx="624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914400" y="201168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The solution to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x  – 7 = -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1447920" y="274284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5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3984480" y="2141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2286000" y="16066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8"/>
          <p:cNvSpPr/>
          <p:nvPr/>
        </p:nvSpPr>
        <p:spPr>
          <a:xfrm>
            <a:off x="1371600" y="1446840"/>
            <a:ext cx="624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hat you should draw to solve an integer applicat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685800" y="1403640"/>
            <a:ext cx="7696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a picture or numberlin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3984480" y="2141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286000" y="16066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0" y="303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A submarine is at an elevation o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-330 feet. How far is the distance from where the submarine is to the surface ( 0 ft)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762120" y="2073240"/>
            <a:ext cx="7696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330 feet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2"/>
          <p:cNvSpPr/>
          <p:nvPr/>
        </p:nvSpPr>
        <p:spPr>
          <a:xfrm>
            <a:off x="609480" y="-87480"/>
            <a:ext cx="8153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It was 75</a:t>
            </a:r>
            <a:r>
              <a:rPr b="1" lang="en-US" sz="72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 at noon. In the evening, the temperature was 59</a:t>
            </a:r>
            <a:r>
              <a:rPr b="1" lang="en-US" sz="7200" spc="-1" strike="noStrike">
                <a:solidFill>
                  <a:srgbClr val="ffffcc"/>
                </a:solidFill>
                <a:latin typeface="Symbol"/>
                <a:ea typeface="Symbol"/>
              </a:rPr>
              <a:t></a:t>
            </a:r>
            <a:r>
              <a:rPr b="1" lang="en-US" sz="7200" spc="-1" strike="noStrike">
                <a:solidFill>
                  <a:srgbClr val="ffffcc"/>
                </a:solidFill>
                <a:latin typeface="Times New Roman"/>
              </a:rPr>
              <a:t>. How much did the temperature drop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1447920" y="244008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What i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16 degrees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5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6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304920" y="88920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A group of students were climbing from a starting elevation of 130 feet. If they climbed up 250 feet and then back down 250 feet, what is their new elevati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2514600" y="1828800"/>
            <a:ext cx="4800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130 feet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1371600" y="233640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-20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457200" y="151560"/>
            <a:ext cx="82296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he temperature on Monday was 40. If the temperature falls 10 degrees each day after, what will the temperature be on Saturda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1447920" y="2777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-10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3984480" y="2141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2286000" y="16066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8"/>
          <p:cNvSpPr/>
          <p:nvPr/>
        </p:nvSpPr>
        <p:spPr>
          <a:xfrm>
            <a:off x="1523880" y="220896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he solution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M – 5 =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1447920" y="210348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14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90720" y="2106720"/>
            <a:ext cx="6705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he solution to</a:t>
            </a: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24 = D + 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5"/>
          <p:cNvSpPr/>
          <p:nvPr/>
        </p:nvSpPr>
        <p:spPr>
          <a:xfrm>
            <a:off x="3311280" y="2881080"/>
            <a:ext cx="252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D = 1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447920" y="277632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Z + 9 = 4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2634480" y="2043000"/>
            <a:ext cx="387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33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1447920" y="2257920"/>
            <a:ext cx="647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The solution to 40 =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5638680" y="3048120"/>
            <a:ext cx="68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x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0"/>
          <p:cNvSpPr/>
          <p:nvPr/>
        </p:nvSpPr>
        <p:spPr>
          <a:xfrm>
            <a:off x="5715000" y="39625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634480" y="2043000"/>
            <a:ext cx="387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200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Object 13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Text Box 14"/>
          <p:cNvSpPr/>
          <p:nvPr/>
        </p:nvSpPr>
        <p:spPr>
          <a:xfrm>
            <a:off x="228600" y="1300320"/>
            <a:ext cx="8669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The rule when you multiply or divide integer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5">
            <a:hlinkClick r:id="rId3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16">
            <a:hlinkClick r:id="rId4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1447920" y="280548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F – 45 = 1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1657440" y="2712600"/>
            <a:ext cx="583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62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447920" y="2226600"/>
            <a:ext cx="6248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The mean of: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Times New Roman"/>
              </a:rPr>
              <a:t>4, 5,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4205160" y="2714400"/>
            <a:ext cx="7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228600" y="2132640"/>
            <a:ext cx="865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The first operation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do when finding a mea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2212920" y="2043000"/>
            <a:ext cx="4717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additio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1447920" y="394920"/>
            <a:ext cx="6248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Times New Roman"/>
              </a:rPr>
              <a:t>The second operation you do when finding a mean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838080" y="2109960"/>
            <a:ext cx="7239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divisio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 Box 2"/>
          <p:cNvSpPr/>
          <p:nvPr/>
        </p:nvSpPr>
        <p:spPr>
          <a:xfrm>
            <a:off x="1447920" y="2438280"/>
            <a:ext cx="624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he mean of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6, 9, 15, 1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3945960" y="2712600"/>
            <a:ext cx="129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1676520" y="1185840"/>
            <a:ext cx="62071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two negatives or non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1447920" y="234684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The mean of 65, 75, 95, and 10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2"/>
          <p:cNvSpPr/>
          <p:nvPr/>
        </p:nvSpPr>
        <p:spPr>
          <a:xfrm>
            <a:off x="1447920" y="277776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85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447920" y="198036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What you must do to a subtraction proble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4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5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914400" y="718200"/>
            <a:ext cx="7772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Change to addition of the opposite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371600" y="251388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-7 + 14 + -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3">
            <a:hlinkClick r:id="rId1"/>
          </p:cNvPr>
          <p:cNvSpPr/>
          <p:nvPr/>
        </p:nvSpPr>
        <p:spPr>
          <a:xfrm>
            <a:off x="8458200" y="6172200"/>
            <a:ext cx="457200" cy="457200"/>
          </a:xfrm>
          <a:prstGeom prst="diamond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4">
            <a:hlinkClick r:id="rId2"/>
          </p:cNvPr>
          <p:cNvSpPr/>
          <p:nvPr/>
        </p:nvSpPr>
        <p:spPr>
          <a:xfrm>
            <a:off x="7848720" y="6172200"/>
            <a:ext cx="457200" cy="457200"/>
          </a:xfrm>
          <a:prstGeom prst="diamond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447920" y="2104920"/>
            <a:ext cx="6248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What is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5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honda</cp:lastModifiedBy>
  <dcterms:modified xsi:type="dcterms:W3CDTF">2011-06-06T07:15:40Z</dcterms:modified>
  <cp:revision>54</cp:revision>
  <dc:subject/>
  <dc:title>No Slide Title</dc:title>
</cp:coreProperties>
</file>